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D608-AB43-4D71-9434-61E5CE38A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Road to Revolut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Economic Policies in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to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conomic Policies in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ownshend Acts 1767</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glass, lead, paper, paint and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smuggle goods, boycott British goods, and fight with British troop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17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glass, lead, paper, paint and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smuggle goods, boycott British goods, and fight with British tr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ea Act 177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tea, it is a plan to bail out East India Tea company through tax on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oston Tea Party and smuggling of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 Act 17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tea, it is a plan to bail out East India Tea company through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Tea Party and smuggling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tolerable Acts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ponse to Tea Party, assembly and town meetings dissolved, port of Boston closed,and British tried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ilitias form, colonies send representatives to 1st Continental Congress meets and starts colonial boycot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lerable Acts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Tea Party, assembly and town meetings dissolved, port of Boston closed,and British tried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form, colonies send representatives to 1st Continental Congress meets and starts colonial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ebec Act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rohibited colonists from moving into Ohio River Valley, Catholic religion in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expected to settle into the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bec Act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hibited colonists from moving into Ohio River Valley, Catholic religion i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expected to settle into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onarchy vs.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 a monarchy the governing power lies with a king and those that he appoints to offic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arliament was the lawmaking body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itizens elect their own representatives who will represent them in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eople create their government and have the right to make changes when they see fit (laws, election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y vs.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narchy the governing power lies with a king and those that he appoints to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was the lawmaking body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elect their own representatives who will represent them in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reate their government and have the right to make changes when they see fit (laws, 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1</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2</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Proclamation Line of 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felt that England was attempting to control the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England wants to avoid Indian troubl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angered over idea that they must pay for cost of war and British troops now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Line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felt that England was attempting to control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wants to avoid Indian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angered over idea that they must pay for cost of war and British troops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have left the colonies alon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try to enforce laws and taxes after the French and Indian War without the consent of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do not understand colonists are used to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have formed own governmen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are used to managing their own affairs with their elected representativ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axation without representation”, colonist want to have a say in government through elected re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ave left the colonie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y to enforce laws and taxes after the French and Indian War without the consent of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do not understand colonists are used to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have formed own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are used to managing their own affairs with their elected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axation without representation”, colonist want to have a say in government through elected r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ystem were England controls colonial trade and tax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provided raw materials for Britai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f colonies received imports the goods had to arrive on British Shi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ertain colonial goods were sold only to England, but not to other countr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to serve as a market for English manufactured  good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were England controls colonial trade and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provided raw materials for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olonies received imports the goods had to arrive on British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colonial goods were sold only to England, but not to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to serve as a market for English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Navigation Acts 1650-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tricted colonial trade, manufacturing and shipping to other countrie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smuggle and disregard A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 Britain has allowed the colonies to prosper under their protection with little or no control</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 Acts 1650-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colonial trade, manufacturing and shipping to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smuggle and disregard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 Britain has allowed the colonies to prosper under their protection with little or no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ugar Act 176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placed on sugar and molasses because colonists are British subje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protest and smuggle sugar and molass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 17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laced on sugar and molasses because colonists are British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protest and smuggle sugar and mo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artering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quired colonies to provide British troops with quarters and suppl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al assemblies vote to refuse to supply British soldier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colonies to provide British troops with quarters and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ssemblies vote to refuse to supply British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tamp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ny item that was made of paper required a stamped tax payment to be mad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argue “taxation with representation”, Stamp Act is repealed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tem that was made of paper required a stamped tax payment to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argue “taxation with representation”, Stamp Act is repea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3E892-579E-475A-8C1E-377096025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E232E-EA3B-4669-8FEE-9C63F1DBC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5AF05-33BD-4374-AEB0-E6402C9FB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521E9-CEC2-46B1-B6CF-9FBBE462D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F199B-9B7D-4D29-A42D-CF081BDCC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0127C-594B-4765-B36C-1E36F907E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5D082-92CA-4BE6-93D0-CE528FCB0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DDF65-0445-41A1-88D2-14B352BE8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EBC60-2316-4E3E-870E-B666A59E8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2DEC5-12DC-43D5-8E51-198AEA2BE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5E000-2DD1-4E95-9D6E-8A5E9F7F6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A31ED-0E34-4AC5-8B9C-580D8A392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C9265-3232-443B-9BDE-7229C2856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56A2C-5EE3-4232-B2F8-F547B5A2D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150D3-6F3B-4CE5-8AC8-6F0EBA35C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21028-4826-468E-ABA4-5D49083D3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18DB4-1715-4EAA-AE8E-57414834C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52800-01A8-485C-B94C-2C1F2FE11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6AEA1-6800-45F0-9F92-CF6796C01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4D617-F90C-42AB-9FAC-3B74643B4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10A0B-9866-4E66-961A-4F3810215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65966-1EC3-42D4-A9E9-9C0F0557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17C1-6184-4243-AB85-8C1CAEE26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EA1AE-AFF7-43BC-BC1E-CCAB839E6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291F-F1A3-4C86-900F-24C104DFC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DE30-EE66-4F47-ADC5-E6E944EEC384}"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82440"/>
            <a:ext cx="7772400" cy="105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The Road to Revolution</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Salutary Neglect</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Mercantilism</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Economic Policies in the Colonies</a:t>
            </a:r>
            <a:endParaRPr b="0" lang="en-US" sz="36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ownshend Acts 1767</a:t>
            </a:r>
            <a:endParaRPr b="0" lang="en-US" sz="4400" spc="-1" strike="noStrike">
              <a:solidFill>
                <a:srgbClr val="ffffcc"/>
              </a:solidFill>
              <a:latin typeface="Arial"/>
            </a:endParaRPr>
          </a:p>
        </p:txBody>
      </p:sp>
      <p:sp>
        <p:nvSpPr>
          <p:cNvPr id="158"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glass, lead, paper, paint and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smuggle goods, boycott British goods, and fight with British troops </a:t>
            </a:r>
            <a:endParaRPr b="0" lang="en-US" sz="2800" spc="-1" strike="noStrike">
              <a:solidFill>
                <a:srgbClr val="eaeaea"/>
              </a:solidFill>
              <a:latin typeface="Verdana"/>
            </a:endParaRPr>
          </a:p>
        </p:txBody>
      </p:sp>
      <p:pic>
        <p:nvPicPr>
          <p:cNvPr id="159"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a Act 1773</a:t>
            </a:r>
            <a:endParaRPr b="0" lang="en-US" sz="4400" spc="-1" strike="noStrike">
              <a:solidFill>
                <a:srgbClr val="ffffcc"/>
              </a:solidFill>
              <a:latin typeface="Arial"/>
            </a:endParaRPr>
          </a:p>
        </p:txBody>
      </p:sp>
      <p:sp>
        <p:nvSpPr>
          <p:cNvPr id="16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tea, it is a plan to bail out East India Tea company through tax on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oston Tea Party and smuggling of tea</a:t>
            </a:r>
            <a:endParaRPr b="0" lang="en-US" sz="2800" spc="-1" strike="noStrike">
              <a:solidFill>
                <a:srgbClr val="eaeaea"/>
              </a:solidFill>
              <a:latin typeface="Verdana"/>
            </a:endParaRPr>
          </a:p>
        </p:txBody>
      </p:sp>
      <p:pic>
        <p:nvPicPr>
          <p:cNvPr id="163"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tolerable Acts 1774</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ponse to Tea Party, assembly and town meetings dissolved, port of Boston closed,and British tried in Eng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litias form, colonies send representatives to 1st Continental Congress meets and starts colonial boycott</a:t>
            </a:r>
            <a:endParaRPr b="0" lang="en-US" sz="2800" spc="-1" strike="noStrike">
              <a:solidFill>
                <a:srgbClr val="eaeaea"/>
              </a:solidFill>
              <a:latin typeface="Verdana"/>
            </a:endParaRPr>
          </a:p>
        </p:txBody>
      </p:sp>
      <p:pic>
        <p:nvPicPr>
          <p:cNvPr id="167" name="Picture 4" descr=""/>
          <p:cNvPicPr/>
          <p:nvPr/>
        </p:nvPicPr>
        <p:blipFill>
          <a:blip r:embed="rId1"/>
          <a:stretch/>
        </p:blipFill>
        <p:spPr>
          <a:xfrm>
            <a:off x="4876920" y="1828800"/>
            <a:ext cx="3809880" cy="4114800"/>
          </a:xfrm>
          <a:prstGeom prst="rect">
            <a:avLst/>
          </a:prstGeom>
          <a:ln w="38160">
            <a:solidFill>
              <a:srgbClr val="eaeaea"/>
            </a:solidFill>
            <a:miter/>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ebec Act 1774</a:t>
            </a:r>
            <a:endParaRPr b="0" lang="en-US" sz="4400" spc="-1" strike="noStrike">
              <a:solidFill>
                <a:srgbClr val="ffffcc"/>
              </a:solidFill>
              <a:latin typeface="Arial"/>
            </a:endParaRPr>
          </a:p>
        </p:txBody>
      </p:sp>
      <p:sp>
        <p:nvSpPr>
          <p:cNvPr id="17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ohibited colonists from moving into Ohio River Valley, Catholic religion in reg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expected to settle into the region</a:t>
            </a:r>
            <a:endParaRPr b="0" lang="en-US" sz="2800" spc="-1" strike="noStrike">
              <a:solidFill>
                <a:srgbClr val="eaeaea"/>
              </a:solidFill>
              <a:latin typeface="Verdana"/>
            </a:endParaRPr>
          </a:p>
        </p:txBody>
      </p:sp>
      <p:pic>
        <p:nvPicPr>
          <p:cNvPr id="17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narchy vs. Representative Government</a:t>
            </a:r>
            <a:endParaRPr b="0" lang="en-US" sz="4400" spc="-1" strike="noStrike">
              <a:solidFill>
                <a:srgbClr val="ffffcc"/>
              </a:solidFill>
              <a:latin typeface="Arial"/>
            </a:endParaRPr>
          </a:p>
        </p:txBody>
      </p:sp>
      <p:sp>
        <p:nvSpPr>
          <p:cNvPr id="17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 monarchy the governing power lies with a king and those that he appoints to offic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rliament was the lawmaking body in England</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75"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tizens elect their own representatives who will represent them in government</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ople create their government and have the right to make changes when they see fit (laws, elections)</a:t>
            </a:r>
            <a:endParaRPr b="0" lang="en-US" sz="2800" spc="-1" strike="noStrike">
              <a:solidFill>
                <a:srgbClr val="eaeaea"/>
              </a:solidFill>
              <a:latin typeface="Verdana"/>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 your knowledge of the 13 colonies to answer the following questions for both photographs pictured below.What regions are they located in? Describe the geography of each photo and address the type of economy  each region would have?</a:t>
            </a:r>
            <a:r>
              <a:rPr b="0" lang="en-US" sz="2400" spc="-1" strike="noStrike">
                <a:solidFill>
                  <a:srgbClr val="ffffcc"/>
                </a:solidFill>
                <a:latin typeface="Arial"/>
              </a:rPr>
              <a:t> </a:t>
            </a:r>
            <a:endParaRPr b="0" lang="en-US" sz="2400" spc="-1" strike="noStrike">
              <a:solidFill>
                <a:srgbClr val="ffffcc"/>
              </a:solidFill>
              <a:latin typeface="Arial"/>
            </a:endParaRPr>
          </a:p>
        </p:txBody>
      </p:sp>
      <p:pic>
        <p:nvPicPr>
          <p:cNvPr id="125" name="Picture 3" descr=""/>
          <p:cNvPicPr/>
          <p:nvPr/>
        </p:nvPicPr>
        <p:blipFill>
          <a:blip r:embed="rId1"/>
          <a:stretch/>
        </p:blipFill>
        <p:spPr>
          <a:xfrm>
            <a:off x="304920" y="1981080"/>
            <a:ext cx="4190760" cy="4114800"/>
          </a:xfrm>
          <a:prstGeom prst="rect">
            <a:avLst/>
          </a:prstGeom>
          <a:ln w="38160">
            <a:solidFill>
              <a:srgbClr val="eaeaea"/>
            </a:solidFill>
            <a:miter/>
          </a:ln>
        </p:spPr>
      </p:pic>
      <p:pic>
        <p:nvPicPr>
          <p:cNvPr id="126" name="Picture 4" descr=""/>
          <p:cNvPicPr/>
          <p:nvPr/>
        </p:nvPicPr>
        <p:blipFill>
          <a:blip r:embed="rId2"/>
          <a:stretch/>
        </p:blipFill>
        <p:spPr>
          <a:xfrm>
            <a:off x="4648320" y="1981080"/>
            <a:ext cx="4190760" cy="4114800"/>
          </a:xfrm>
          <a:prstGeom prst="rect">
            <a:avLst/>
          </a:prstGeom>
          <a:ln w="28440">
            <a:solidFill>
              <a:srgbClr val="eaeaea"/>
            </a:solidFill>
            <a:miter/>
          </a:ln>
        </p:spPr>
      </p:pic>
      <p:sp>
        <p:nvSpPr>
          <p:cNvPr id="127" name="Text Box 5"/>
          <p:cNvSpPr/>
          <p:nvPr/>
        </p:nvSpPr>
        <p:spPr>
          <a:xfrm>
            <a:off x="1295280" y="624852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1</a:t>
            </a:r>
            <a:endParaRPr b="0" lang="en-US" sz="3200" spc="-1" strike="noStrike">
              <a:solidFill>
                <a:srgbClr val="eaeaea"/>
              </a:solidFill>
              <a:latin typeface="Verdana"/>
            </a:endParaRPr>
          </a:p>
        </p:txBody>
      </p:sp>
      <p:sp>
        <p:nvSpPr>
          <p:cNvPr id="128" name="Text Box 6"/>
          <p:cNvSpPr/>
          <p:nvPr/>
        </p:nvSpPr>
        <p:spPr>
          <a:xfrm>
            <a:off x="6248520" y="63244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2</a:t>
            </a:r>
            <a:endParaRPr b="0" lang="en-US" sz="3200" spc="-1" strike="noStrike">
              <a:solidFill>
                <a:srgbClr val="eaeaea"/>
              </a:solidFill>
              <a:latin typeface="Verdana"/>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roclamation Line of 1763</a:t>
            </a:r>
            <a:endParaRPr b="0" lang="en-US" sz="4400" spc="-1" strike="noStrike">
              <a:solidFill>
                <a:srgbClr val="ffffcc"/>
              </a:solidFill>
              <a:latin typeface="Arial"/>
            </a:endParaRPr>
          </a:p>
        </p:txBody>
      </p:sp>
      <p:pic>
        <p:nvPicPr>
          <p:cNvPr id="131" name="Picture 3" descr=""/>
          <p:cNvPicPr/>
          <p:nvPr/>
        </p:nvPicPr>
        <p:blipFill>
          <a:blip r:embed="rId1"/>
          <a:stretch/>
        </p:blipFill>
        <p:spPr>
          <a:xfrm>
            <a:off x="380880" y="1981080"/>
            <a:ext cx="3810240" cy="4114800"/>
          </a:xfrm>
          <a:prstGeom prst="rect">
            <a:avLst/>
          </a:prstGeom>
          <a:ln w="38160">
            <a:solidFill>
              <a:srgbClr val="eaeaea"/>
            </a:solidFill>
            <a:miter/>
          </a:ln>
        </p:spPr>
      </p:pic>
      <p:sp>
        <p:nvSpPr>
          <p:cNvPr id="132" name="PlaceHolder 2"/>
          <p:cNvSpPr>
            <a:spLocks noGrp="1"/>
          </p:cNvSpPr>
          <p:nvPr>
            <p:ph/>
          </p:nvPr>
        </p:nvSpPr>
        <p:spPr>
          <a:xfrm>
            <a:off x="4267080" y="1828800"/>
            <a:ext cx="4267440" cy="41148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felt that England was attempting to control them</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gland wants to avoid Indian troubl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angered over idea that they must pay for cost of war and British troops now</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alutary Neglect</a:t>
            </a:r>
            <a:endParaRPr b="0" lang="en-US" sz="4400" spc="-1" strike="noStrike">
              <a:solidFill>
                <a:srgbClr val="ffffcc"/>
              </a:solidFill>
              <a:latin typeface="Arial"/>
            </a:endParaRPr>
          </a:p>
        </p:txBody>
      </p:sp>
      <p:sp>
        <p:nvSpPr>
          <p:cNvPr id="135" name="PlaceHolder 2"/>
          <p:cNvSpPr>
            <a:spLocks noGrp="1"/>
          </p:cNvSpPr>
          <p:nvPr>
            <p:ph/>
          </p:nvPr>
        </p:nvSpPr>
        <p:spPr>
          <a:xfrm>
            <a:off x="380880" y="1523880"/>
            <a:ext cx="4114800" cy="457200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have left the colonies alone</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try to enforce laws and taxes after the French and Indian War without the consent of the colonie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do not understand colonists are used to representative government</a:t>
            </a:r>
            <a:endParaRPr b="0" lang="en-US" sz="2800" spc="-1" strike="noStrike">
              <a:solidFill>
                <a:srgbClr val="eaeaea"/>
              </a:solidFill>
              <a:latin typeface="Verdana"/>
            </a:endParaRPr>
          </a:p>
        </p:txBody>
      </p:sp>
      <p:sp>
        <p:nvSpPr>
          <p:cNvPr id="136" name="PlaceHolder 3"/>
          <p:cNvSpPr>
            <a:spLocks noGrp="1"/>
          </p:cNvSpPr>
          <p:nvPr>
            <p:ph/>
          </p:nvPr>
        </p:nvSpPr>
        <p:spPr>
          <a:xfrm>
            <a:off x="4647960" y="1600200"/>
            <a:ext cx="3809880" cy="4495680"/>
          </a:xfrm>
          <a:prstGeom prst="rect">
            <a:avLst/>
          </a:prstGeom>
          <a:noFill/>
          <a:ln w="0">
            <a:noFill/>
          </a:ln>
        </p:spPr>
        <p:txBody>
          <a:bodyPr anchor="t">
            <a:normAutofit fontScale="90000"/>
          </a:bodyPr>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have formed own government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are used to managing their own affairs with their elected representative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Taxation without representation”, colonist want to have a say in government through elected reps.</a:t>
            </a:r>
            <a:endParaRPr b="0" lang="en-US" sz="2800" spc="-1" strike="noStrike">
              <a:solidFill>
                <a:srgbClr val="eaeaea"/>
              </a:solidFill>
              <a:latin typeface="Verdana"/>
            </a:endParaRPr>
          </a:p>
        </p:txBody>
      </p:sp>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ritish Mercantilism</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100000"/>
              </a:lnSpc>
              <a:spcBef>
                <a:spcPts val="499"/>
              </a:spcBef>
              <a:spcAft>
                <a:spcPts val="4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ystem were England controls colonial trade and taxes</a:t>
            </a:r>
            <a:endParaRPr b="0" lang="en-US" sz="32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provided raw materials for Britain</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colonies received imports the goods had to arrive on British Ship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ertain colonial goods were sold only to England, but not to other countrie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to serve as a market for English manufactured  goods</a:t>
            </a:r>
            <a:endParaRPr b="0" lang="en-US" sz="2800" spc="-1" strike="noStrike">
              <a:solidFill>
                <a:srgbClr val="eaeaea"/>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avigation Acts 1650-1763</a:t>
            </a:r>
            <a:endParaRPr b="0" lang="en-US" sz="4400" spc="-1" strike="noStrike">
              <a:solidFill>
                <a:srgbClr val="ffffcc"/>
              </a:solidFill>
              <a:latin typeface="Arial"/>
            </a:endParaRPr>
          </a:p>
        </p:txBody>
      </p:sp>
      <p:sp>
        <p:nvSpPr>
          <p:cNvPr id="142" name="PlaceHolder 2"/>
          <p:cNvSpPr>
            <a:spLocks noGrp="1"/>
          </p:cNvSpPr>
          <p:nvPr>
            <p:ph/>
          </p:nvPr>
        </p:nvSpPr>
        <p:spPr>
          <a:xfrm>
            <a:off x="457200" y="1828440"/>
            <a:ext cx="4648320" cy="4267080"/>
          </a:xfrm>
          <a:prstGeom prst="rect">
            <a:avLst/>
          </a:prstGeom>
          <a:noFill/>
          <a:ln w="0">
            <a:noFill/>
          </a:ln>
        </p:spPr>
        <p:txBody>
          <a:bodyPr anchor="t">
            <a:normAutofit fontScale="97000"/>
          </a:bodyPr>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tricted colonial trade, manufacturing and shipping to other countries </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smuggle and disregard Acts</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lutary Neglect: Britain has allowed the colonies to prosper under their protection with little or no control</a:t>
            </a:r>
            <a:endParaRPr b="0" lang="en-US" sz="2800" spc="-1" strike="noStrike">
              <a:solidFill>
                <a:srgbClr val="eaeaea"/>
              </a:solidFill>
              <a:latin typeface="Verdana"/>
            </a:endParaRPr>
          </a:p>
        </p:txBody>
      </p:sp>
      <p:pic>
        <p:nvPicPr>
          <p:cNvPr id="143" name="Picture 4" descr=""/>
          <p:cNvPicPr/>
          <p:nvPr/>
        </p:nvPicPr>
        <p:blipFill>
          <a:blip r:embed="rId1"/>
          <a:stretch/>
        </p:blipFill>
        <p:spPr>
          <a:xfrm>
            <a:off x="5410080" y="1905120"/>
            <a:ext cx="3276720" cy="4114800"/>
          </a:xfrm>
          <a:prstGeom prst="rect">
            <a:avLst/>
          </a:prstGeom>
          <a:ln w="38160">
            <a:solidFill>
              <a:srgbClr val="eaeaea"/>
            </a:solidFill>
            <a:miter/>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gar Act 1764</a:t>
            </a:r>
            <a:endParaRPr b="0" lang="en-US" sz="4400" spc="-1" strike="noStrike">
              <a:solidFill>
                <a:srgbClr val="ffffcc"/>
              </a:solidFill>
              <a:latin typeface="Arial"/>
            </a:endParaRPr>
          </a:p>
        </p:txBody>
      </p:sp>
      <p:sp>
        <p:nvSpPr>
          <p:cNvPr id="146"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placed on sugar and molasses because colonists are British subjec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protest and smuggle sugar and molasses</a:t>
            </a:r>
            <a:endParaRPr b="0" lang="en-US" sz="2800" spc="-1" strike="noStrike">
              <a:solidFill>
                <a:srgbClr val="eaeaea"/>
              </a:solidFill>
              <a:latin typeface="Verdana"/>
            </a:endParaRPr>
          </a:p>
        </p:txBody>
      </p:sp>
      <p:pic>
        <p:nvPicPr>
          <p:cNvPr id="147"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artering Act 1765</a:t>
            </a:r>
            <a:endParaRPr b="0" lang="en-US" sz="4400" spc="-1" strike="noStrike">
              <a:solidFill>
                <a:srgbClr val="ffffcc"/>
              </a:solidFill>
              <a:latin typeface="Arial"/>
            </a:endParaRPr>
          </a:p>
        </p:txBody>
      </p:sp>
      <p:sp>
        <p:nvSpPr>
          <p:cNvPr id="15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ired colonies to provide British troops with quarters and supplie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al assemblies vote to refuse to supply British soldiers</a:t>
            </a:r>
            <a:endParaRPr b="0" lang="en-US" sz="2800" spc="-1" strike="noStrike">
              <a:solidFill>
                <a:srgbClr val="eaeaea"/>
              </a:solidFill>
              <a:latin typeface="Verdana"/>
            </a:endParaRPr>
          </a:p>
        </p:txBody>
      </p:sp>
      <p:pic>
        <p:nvPicPr>
          <p:cNvPr id="15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mp Act 1765</a:t>
            </a:r>
            <a:endParaRPr b="0" lang="en-US" sz="4400" spc="-1" strike="noStrike">
              <a:solidFill>
                <a:srgbClr val="ffffcc"/>
              </a:solidFill>
              <a:latin typeface="Arial"/>
            </a:endParaRPr>
          </a:p>
        </p:txBody>
      </p:sp>
      <p:sp>
        <p:nvSpPr>
          <p:cNvPr id="15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y item that was made of paper required a stamped tax payment to be mad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argue “taxation with representation”, Stamp Act is repealed </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5"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2:44:36Z</dcterms:created>
  <dc:creator>core curr</dc:creator>
  <dc:description/>
  <dc:language>en-US</dc:language>
  <cp:lastModifiedBy>Legion</cp:lastModifiedBy>
  <dcterms:modified xsi:type="dcterms:W3CDTF">2017-07-05T12:47:37Z</dcterms:modified>
  <cp:revision>13</cp:revision>
  <dc:subject/>
  <dc:title>Salutary Neglect</dc:title>
</cp:coreProperties>
</file>